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5E1-5ED6-460C-A30F-92D5ACAB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0F5-54A9-4CF8-8CB1-6DC1440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742-DB6D-4B26-B4A4-37F86463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917-7F01-4A16-9A3E-43427D5D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8D3-30DE-44BB-8A6E-D732CC1C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47E-C3C2-42C4-96FD-81B83C5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A8E-ED31-4E7A-A9E7-4F74BD7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FDD-B976-41D7-8D6D-5F3942B8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818-D620-4790-B40C-6B8B1F3B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389-81C2-4A5B-BBFD-C9C264F3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EB5-CE46-49CD-863D-7624D1F2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DCC-7140-459E-9788-A123F7C6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93B4-21E6-4C7A-8D97-B7F3DFDFB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ÎMBRĂCĂMINTEA ROMANIL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nualul de Limba latină, clasa a IX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aniela Văduva, consultant principal I. Fische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8360" y="4724280"/>
            <a:ext cx="18478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oga, îmbrăcămintea oficială a cetăţeanului roman, (interzisă străinilor) era o piesă din lână albă (toga candida) tăiată în două semicercuri, ale căror dimensiuni ajungeau până la şase metri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 timp de doliu sau alte nenorociri se purta toga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culoare neagră (toga sordida). Aranjarea ei era destul de complicată şi cerea foarte multă mig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agistraţii şi băieţii cetăţenilor romani (până la 17 ani) purtau toga praetexta, toga tivită pe marg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u o bandă de purpură. După ce deveneau majori, tinerii îmbrăcau toga virilă (toga virili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nica, haină de uz curent, strânsă pe talie cu ajutorul unei cingători (cinctura), era purtată, de obicei, pe sub tog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llium şi paenula (îmbrăcăminte pentru timpul rece) au înlocuit cu timpul tog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emeile purtau o tunică, cu sau fără mâneci, mai largă decât cea a bărbaţilor. Pe deasupra acesteia se punea stola, o cămaşă lungă până la glezne, strânsă pe talie cu o cingătoare. Peste stola se purta o manta simplă (ricinium), sau o haină mai mare (palla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68360" y="0"/>
            <a:ext cx="921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omp_i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5280" y="76500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gaţi la toate modurile şi timpurile din tema de perfect, verbele de mai jo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cludo, -ere, -s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stendo, -ere, -ndi, -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do, -are, -avi, -at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cunoaşteţi următoarele forme verbale şi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enaviss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piv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luera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overimu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neru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alutaveritis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taţi propoziţiile următoare punând verbele la indicativ perfect. Traduceţ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esar post pugnam Ro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en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udius ab adulescentia in villa habit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omani longo bello Gallos vinc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40464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a3</cp:lastModifiedBy>
  <dcterms:modified xsi:type="dcterms:W3CDTF">2012-06-18T11:17:06Z</dcterms:modified>
  <cp:revision>45</cp:revision>
  <dc:subject/>
  <dc:title>SALARIUL</dc:title>
</cp:coreProperties>
</file>